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FCAF02-E3B7-41C6-9C60-8DE1456D709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5DBD18-FE41-4376-911B-336F5899E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43F077-0328-4FF4-8ECF-70EDDCD86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5ED9-2257-4009-B16B-EF5CEBF54638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130D-3536-416B-8378-DDA0049477EC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B1DD-AADA-4317-912F-6CD64D5CC6C0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A28-D6FD-440C-8C6D-AAD52EEACB0B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1"/>
          <p:cNvSpPr/>
          <p:nvPr/>
        </p:nvSpPr>
        <p:spPr>
          <a:xfrm>
            <a:off x="250920" y="87948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250920" y="558972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B1C-D646-4285-B3FC-5CBEF55E9F10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E01-2490-4998-B6E1-5DDAF80F027F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E080-8FDE-4DBE-9D7E-6CB92F5A467C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4399-9FE1-4D4B-80D1-E4C546718ED1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5944-F9D5-4662-BABC-5C37A7D744FA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EAA-2016-4758-A300-776139923DF4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EC0-72AC-4338-AC3C-D6EBD4CC4FDA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9557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Meno1 Priezvisko1, Meno 2 Priezvisko2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. roč. Bc. , ZS 2021/22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2" name="AutoShape 51"/>
          <p:cNvSpPr/>
          <p:nvPr/>
        </p:nvSpPr>
        <p:spPr>
          <a:xfrm>
            <a:off x="237960" y="1168560"/>
            <a:ext cx="8642520" cy="7128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AutoShape 52"/>
          <p:cNvSpPr/>
          <p:nvPr/>
        </p:nvSpPr>
        <p:spPr>
          <a:xfrm>
            <a:off x="257040" y="3716280"/>
            <a:ext cx="8642520" cy="7164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50920" y="1672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Verdana"/>
              </a:rPr>
              <a:t>MEMS-x:  NÁZOV PRÁ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99"/>
                </a:solidFill>
                <a:latin typeface="Verdana"/>
              </a:rPr>
              <a:t>(2–3 riadky)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72"/>
          <p:cNvSpPr/>
          <p:nvPr/>
        </p:nvSpPr>
        <p:spPr>
          <a:xfrm>
            <a:off x="162000" y="42339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Referát z predmetu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„</a:t>
            </a:r>
            <a:r>
              <a:rPr b="1" lang="sk-SK" sz="2400" spc="-1" strike="noStrike">
                <a:solidFill>
                  <a:srgbClr val="000066"/>
                </a:solidFill>
                <a:latin typeface="Verdana"/>
              </a:rPr>
              <a:t>Modelovanie elektromechanických systémov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"/>
          <p:cNvSpPr/>
          <p:nvPr/>
        </p:nvSpPr>
        <p:spPr>
          <a:xfrm>
            <a:off x="685800" y="147600"/>
            <a:ext cx="774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tedra elektrotechniky a mechatronik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Fakulta elektrotechniky a informatiky, TU v Košicia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Obrázok 1" descr=""/>
          <p:cNvPicPr/>
          <p:nvPr/>
        </p:nvPicPr>
        <p:blipFill>
          <a:blip r:embed="rId1"/>
          <a:stretch/>
        </p:blipFill>
        <p:spPr>
          <a:xfrm>
            <a:off x="306360" y="182520"/>
            <a:ext cx="66060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25360" y="1176480"/>
            <a:ext cx="8918640" cy="4573440"/>
          </a:xfrm>
          <a:prstGeom prst="rect">
            <a:avLst/>
          </a:prstGeom>
          <a:noFill/>
          <a:ln w="0">
            <a:noFill/>
          </a:ln>
        </p:spPr>
        <p:txBody>
          <a:bodyPr lIns="54000" rIns="18000" anchor="t">
            <a:normAutofit/>
          </a:bodyPr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adanie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stručne zhrnúť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Analýza, východiská riešenia a po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̶ 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Prípadný p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nadpis uviesť odrážkou - pomlčk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lastné rieše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hodne pomenovať: Matematický model, 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ýsledky riešenia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časové a iné priebehy a pod.)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ávrh a popis GU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popis jednotlivých častí GUI, vývojový diagram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áve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čo sa urobilo, dosiahnuté výsledky, ďalšie riešenie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Obsah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Tahoma"/>
              </a:rPr>
              <a:t>(príklad, použiť vlastné vhodné pomenovanie)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1.  Zadanie 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Tu vložiť stručne zadanie aj nákres – (heslov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1 obrazovk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notlivé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asti prezentác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íslujte (kapitoly – 1, podkap. 1.1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iadk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obrazovke zvoľte tak, aby bol vyplnená stran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bl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,1 – 1,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d ods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m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nechať cca 6 – 9 p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skratkové kláves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 rýchl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novú snímku:    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M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duplikát snímky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D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zalomenie riadku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 rámci odseku)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hift + Enter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(napr. jedno-, dvojslabičné predložky a spojky na konci riadk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3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y číslujte (vpravo do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u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matick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– jeho úprava: Zobraziť/Predloha snímk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2.  Riešenie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 ohľadom na svetelné podmienky v miestnosti (bez zatemnenia) je najvhodnejšie pís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iernymi písmenami na biele pozadie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rôzne farebné pozadia nie sú veľmi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možnosti zvoli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štruktúrovaný tex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t.j. 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odráž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. rádu, príp. aj 2. rádu, napr. pomlčky), </a:t>
            </a:r>
            <a:br>
              <a:rPr sz="2200"/>
            </a:b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íslova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v texte zdôrazniť dôležité (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tučn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podčiarknu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seky oddeliť väčšou medzerou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adpis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snímke -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Tahom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28 p., tučný (lepšie inou farbou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Text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o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bezpätkový fo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najlepšie Tahoma, 20-22 bo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prípade potreby možno použiť aj iné bezpätkové fonty: Tahoma,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  <a:ea typeface="Verdana"/>
              </a:rPr>
              <a:t>Verdana, </a:t>
            </a:r>
            <a:r>
              <a:rPr b="0" lang="sk-SK" sz="2200" spc="-1" strike="noStrike">
                <a:solidFill>
                  <a:srgbClr val="000000"/>
                </a:solidFill>
                <a:latin typeface="Arial Narrow"/>
                <a:ea typeface="Verdana"/>
              </a:rPr>
              <a:t>Arial Narrow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neodporúča sa pätkové, ako napr. 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Times New Roman, 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Garamond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3. Výsledky 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ovnic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ísať tým istým fontom a veľkosťou ako text (cca 22 p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rovniciach premenné a funkci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ležatým typom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ie však čísla a zátvor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bráz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a v obrázkoch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značeni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obrázky netreba číslovať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a nesmie byt prepchatá, ale zložité obrázky majú byť čo najväčšie (prípadne orezať prázdne okraj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zor na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malé indexy a čísl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grafo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- aby boli čitateľné (priame výstupy s MATLABu bez úpravy spravidla nie sú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porúčaný počet snímo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ze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i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 cca 8 – 12 až 15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trénujte si prezentáciu: aspoň 3x si ju povedzte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pravte si ju na rozsah cca 7 – 10 mi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x.  Záver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tručne (heslovite) zhrnúť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o a ako bolo v danej práci riešené, akými metódam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dosiahnuté výsled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obmedzenia riešen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možnosti rozšírenia programu , vylepšenia a pokračovani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ďalšej prá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o a kde možno vyu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ť dosiahnuté výsled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elkové zhodnotenie a p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 prezentácii predveďt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GUI, príp. MATLABe/Simulinku/ SimScape (podľa požiadaviek)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99"/>
                </a:solidFill>
                <a:latin typeface="Tahoma"/>
              </a:rPr>
              <a:t>Ďakujeme za pozornosť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Kontakt</a:t>
            </a:r>
            <a:r>
              <a:rPr b="1" lang="sk-SK" sz="2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0" lang="sk-SK" sz="2200" spc="-1" strike="noStrike">
                <a:solidFill>
                  <a:srgbClr val="003399"/>
                </a:solidFill>
                <a:latin typeface="Tahoma"/>
              </a:rPr>
              <a:t>- napr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íp. sa tu môže napísať celý kontakt – inštitúcia, adresa,..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5:03:40Z</dcterms:created>
  <dc:creator>Autori</dc:creator>
  <dc:description>Template by:
Viliam Fedák, KEM FEI TUKE, 2011</dc:description>
  <cp:keywords>CAD mechatronika</cp:keywords>
  <dc:language>en-US</dc:language>
  <cp:lastModifiedBy>Viliam Fedák</cp:lastModifiedBy>
  <dcterms:modified xsi:type="dcterms:W3CDTF">2021-11-09T19:16:23Z</dcterms:modified>
  <cp:revision>468</cp:revision>
  <dc:subject>CAD v mechatronike</dc:subject>
  <dc:title>Referát z predmetu</dc:title>
</cp:coreProperties>
</file>