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dt" idx="1"/>
          </p:nvPr>
        </p:nvSpPr>
        <p:spPr>
          <a:xfrm>
            <a:off x="39020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Click to move the slide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ftr" idx="2"/>
          </p:nvPr>
        </p:nvSpPr>
        <p:spPr>
          <a:xfrm>
            <a:off x="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 type="sldNum" idx="3"/>
          </p:nvPr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DD3A861-9F17-4977-A1A9-517F0A047803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F7E03EA-955F-4462-8515-AC7252229E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902040" y="91407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38B2806-073A-472D-80A7-47978F465F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9040" y="4570200"/>
            <a:ext cx="551016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71280" y="266760"/>
            <a:ext cx="88934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1588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244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187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1588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244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71280" y="266760"/>
            <a:ext cx="88934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588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4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87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588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4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1588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244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187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1588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244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71280" y="266760"/>
            <a:ext cx="88934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1588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244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187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1588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244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71280" y="266760"/>
            <a:ext cx="88934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1588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244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187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1588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244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1280" y="266760"/>
            <a:ext cx="88934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1588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87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1588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1280" y="266760"/>
            <a:ext cx="88934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1588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44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87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1588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244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1280" y="266760"/>
            <a:ext cx="88934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1588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244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87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1588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244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71280" y="266760"/>
            <a:ext cx="88934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1280" y="266760"/>
            <a:ext cx="88934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1588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244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187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1588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244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1280" y="266760"/>
            <a:ext cx="88934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1588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44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187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1588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44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71280" y="266760"/>
            <a:ext cx="88934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1588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244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87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1588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244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71280" y="266760"/>
            <a:ext cx="88934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187200" y="3807720"/>
            <a:ext cx="8956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76840" y="112536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8720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776840" y="3807720"/>
            <a:ext cx="4370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1588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244200" y="112536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187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1588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244200" y="3807720"/>
            <a:ext cx="28839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93800" indent="-387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93760" indent="-39816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Text Box 15"/>
          <p:cNvSpPr/>
          <p:nvPr/>
        </p:nvSpPr>
        <p:spPr>
          <a:xfrm>
            <a:off x="96840" y="6534000"/>
            <a:ext cx="5019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d5d5d"/>
                </a:solidFill>
                <a:latin typeface="Arial"/>
              </a:rPr>
              <a:t>Stručný názov zadani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Text Box 23"/>
          <p:cNvSpPr/>
          <p:nvPr/>
        </p:nvSpPr>
        <p:spPr>
          <a:xfrm>
            <a:off x="5261040" y="6541920"/>
            <a:ext cx="3294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f5f5f"/>
                </a:solidFill>
                <a:latin typeface="Arial"/>
              </a:rPr>
              <a:t>M1. Priezvisko1, M2. Priezvisko2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Line 24"/>
          <p:cNvSpPr/>
          <p:nvPr/>
        </p:nvSpPr>
        <p:spPr>
          <a:xfrm>
            <a:off x="206280" y="640404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8388360" y="6381720"/>
            <a:ext cx="75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33"/>
          <p:cNvSpPr/>
          <p:nvPr/>
        </p:nvSpPr>
        <p:spPr>
          <a:xfrm>
            <a:off x="250920" y="95868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35"/>
          <p:cNvSpPr/>
          <p:nvPr/>
        </p:nvSpPr>
        <p:spPr>
          <a:xfrm>
            <a:off x="8532720" y="6566040"/>
            <a:ext cx="573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B9EB-62E0-4B66-851F-0F8376541462}" type="slidenum">
              <a:rPr b="0" lang="sk-SK" sz="1200" spc="-1" strike="noStrike">
                <a:solidFill>
                  <a:srgbClr val="5d5d5d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5d5d5d"/>
                </a:solidFill>
                <a:latin typeface="Verdana"/>
              </a:rPr>
              <a:t>/</a:t>
            </a:r>
            <a:r>
              <a:rPr b="0" lang="sk-SK" sz="1200" spc="-1" strike="noStrike">
                <a:solidFill>
                  <a:srgbClr val="5d5d5d"/>
                </a:solidFill>
                <a:latin typeface="Verdana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5"/>
          <p:cNvSpPr/>
          <p:nvPr/>
        </p:nvSpPr>
        <p:spPr>
          <a:xfrm>
            <a:off x="96840" y="6534000"/>
            <a:ext cx="5019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d5d5d"/>
                </a:solidFill>
                <a:latin typeface="Arial"/>
              </a:rPr>
              <a:t>Stručný názov zadani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Text Box 23"/>
          <p:cNvSpPr/>
          <p:nvPr/>
        </p:nvSpPr>
        <p:spPr>
          <a:xfrm>
            <a:off x="5261040" y="6541920"/>
            <a:ext cx="3294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f5f5f"/>
                </a:solidFill>
                <a:latin typeface="Arial"/>
              </a:rPr>
              <a:t>M1. Priezvisko1, M2. Priezvisko2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Line 24"/>
          <p:cNvSpPr/>
          <p:nvPr/>
        </p:nvSpPr>
        <p:spPr>
          <a:xfrm>
            <a:off x="206280" y="640404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Text Box 26"/>
          <p:cNvSpPr/>
          <p:nvPr/>
        </p:nvSpPr>
        <p:spPr>
          <a:xfrm>
            <a:off x="8388360" y="6381720"/>
            <a:ext cx="75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Line 33"/>
          <p:cNvSpPr/>
          <p:nvPr/>
        </p:nvSpPr>
        <p:spPr>
          <a:xfrm>
            <a:off x="250920" y="95868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Rectangle 35"/>
          <p:cNvSpPr/>
          <p:nvPr/>
        </p:nvSpPr>
        <p:spPr>
          <a:xfrm>
            <a:off x="8532720" y="6566040"/>
            <a:ext cx="573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490B-9D8D-4E84-BD27-5EB9FB3A20BB}" type="slidenum">
              <a:rPr b="0" lang="sk-SK" sz="1200" spc="-1" strike="noStrike">
                <a:solidFill>
                  <a:srgbClr val="5d5d5d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5d5d5d"/>
                </a:solidFill>
                <a:latin typeface="Verdana"/>
              </a:rPr>
              <a:t>/</a:t>
            </a:r>
            <a:r>
              <a:rPr b="0" lang="sk-SK" sz="1200" spc="-1" strike="noStrike">
                <a:solidFill>
                  <a:srgbClr val="5d5d5d"/>
                </a:solidFill>
                <a:latin typeface="Verdana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93800" indent="-387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93760" indent="-39816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15"/>
          <p:cNvSpPr/>
          <p:nvPr/>
        </p:nvSpPr>
        <p:spPr>
          <a:xfrm>
            <a:off x="96840" y="6534000"/>
            <a:ext cx="5019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d5d5d"/>
                </a:solidFill>
                <a:latin typeface="Arial"/>
              </a:rPr>
              <a:t>Stručný názov zadani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Text Box 23"/>
          <p:cNvSpPr/>
          <p:nvPr/>
        </p:nvSpPr>
        <p:spPr>
          <a:xfrm>
            <a:off x="5261040" y="6541920"/>
            <a:ext cx="3294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f5f5f"/>
                </a:solidFill>
                <a:latin typeface="Arial"/>
              </a:rPr>
              <a:t>M1. Priezvisko1, M2. Priezvisko2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Line 24"/>
          <p:cNvSpPr/>
          <p:nvPr/>
        </p:nvSpPr>
        <p:spPr>
          <a:xfrm>
            <a:off x="206280" y="640404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Text Box 26"/>
          <p:cNvSpPr/>
          <p:nvPr/>
        </p:nvSpPr>
        <p:spPr>
          <a:xfrm>
            <a:off x="8388360" y="6381720"/>
            <a:ext cx="75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Line 33"/>
          <p:cNvSpPr/>
          <p:nvPr/>
        </p:nvSpPr>
        <p:spPr>
          <a:xfrm>
            <a:off x="250920" y="95868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Rectangle 35"/>
          <p:cNvSpPr/>
          <p:nvPr/>
        </p:nvSpPr>
        <p:spPr>
          <a:xfrm>
            <a:off x="8532720" y="6566040"/>
            <a:ext cx="573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758E-37E4-4A53-BB45-13E2452DF2A3}" type="slidenum">
              <a:rPr b="0" lang="sk-SK" sz="1200" spc="-1" strike="noStrike">
                <a:solidFill>
                  <a:srgbClr val="5d5d5d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5d5d5d"/>
                </a:solidFill>
                <a:latin typeface="Verdana"/>
              </a:rPr>
              <a:t>/</a:t>
            </a:r>
            <a:r>
              <a:rPr b="0" lang="sk-SK" sz="1200" spc="-1" strike="noStrike">
                <a:solidFill>
                  <a:srgbClr val="5d5d5d"/>
                </a:solidFill>
                <a:latin typeface="Verdana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93800" indent="-387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93760" indent="-39816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15"/>
          <p:cNvSpPr/>
          <p:nvPr/>
        </p:nvSpPr>
        <p:spPr>
          <a:xfrm>
            <a:off x="96840" y="6534000"/>
            <a:ext cx="5019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d5d5d"/>
                </a:solidFill>
                <a:latin typeface="Arial"/>
              </a:rPr>
              <a:t>Stručný názov zadani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Text Box 23"/>
          <p:cNvSpPr/>
          <p:nvPr/>
        </p:nvSpPr>
        <p:spPr>
          <a:xfrm>
            <a:off x="5261040" y="6541920"/>
            <a:ext cx="3294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f5f5f"/>
                </a:solidFill>
                <a:latin typeface="Arial"/>
              </a:rPr>
              <a:t>M1. Priezvisko1, M2. Priezvisko2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Line 24"/>
          <p:cNvSpPr/>
          <p:nvPr/>
        </p:nvSpPr>
        <p:spPr>
          <a:xfrm>
            <a:off x="206280" y="640404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Text Box 26"/>
          <p:cNvSpPr/>
          <p:nvPr/>
        </p:nvSpPr>
        <p:spPr>
          <a:xfrm>
            <a:off x="8388360" y="6381720"/>
            <a:ext cx="75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Line 33"/>
          <p:cNvSpPr/>
          <p:nvPr/>
        </p:nvSpPr>
        <p:spPr>
          <a:xfrm>
            <a:off x="250920" y="95868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Rectangle 35"/>
          <p:cNvSpPr/>
          <p:nvPr/>
        </p:nvSpPr>
        <p:spPr>
          <a:xfrm>
            <a:off x="8532720" y="6566040"/>
            <a:ext cx="573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F947-129C-4E36-930E-212EFA37C5DE}" type="slidenum">
              <a:rPr b="0" lang="sk-SK" sz="1200" spc="-1" strike="noStrike">
                <a:solidFill>
                  <a:srgbClr val="5d5d5d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5d5d5d"/>
                </a:solidFill>
                <a:latin typeface="Verdana"/>
              </a:rPr>
              <a:t>/</a:t>
            </a:r>
            <a:r>
              <a:rPr b="0" lang="sk-SK" sz="1200" spc="-1" strike="noStrike">
                <a:solidFill>
                  <a:srgbClr val="5d5d5d"/>
                </a:solidFill>
                <a:latin typeface="Verdana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93800" indent="-387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93760" indent="-39816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11"/>
          <p:cNvSpPr/>
          <p:nvPr/>
        </p:nvSpPr>
        <p:spPr>
          <a:xfrm>
            <a:off x="250920" y="879480"/>
            <a:ext cx="8642160" cy="7128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1003" y="0"/>
                </a:lnTo>
                <a:lnTo>
                  <a:pt x="1003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AutoShape 12"/>
          <p:cNvSpPr/>
          <p:nvPr/>
        </p:nvSpPr>
        <p:spPr>
          <a:xfrm>
            <a:off x="250920" y="5589720"/>
            <a:ext cx="8642160" cy="7128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1003" y="0"/>
                </a:lnTo>
                <a:lnTo>
                  <a:pt x="1003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93800" indent="-387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93760" indent="-39816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5"/>
          <p:cNvSpPr/>
          <p:nvPr/>
        </p:nvSpPr>
        <p:spPr>
          <a:xfrm>
            <a:off x="96840" y="6534000"/>
            <a:ext cx="5019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d5d5d"/>
                </a:solidFill>
                <a:latin typeface="Arial"/>
              </a:rPr>
              <a:t>Stručný názov zadani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Text Box 23"/>
          <p:cNvSpPr/>
          <p:nvPr/>
        </p:nvSpPr>
        <p:spPr>
          <a:xfrm>
            <a:off x="5261040" y="6541920"/>
            <a:ext cx="3294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f5f5f"/>
                </a:solidFill>
                <a:latin typeface="Arial"/>
              </a:rPr>
              <a:t>M1. Priezvisko1, M2. Priezvisko2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Line 24"/>
          <p:cNvSpPr/>
          <p:nvPr/>
        </p:nvSpPr>
        <p:spPr>
          <a:xfrm>
            <a:off x="206280" y="640404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 Box 26"/>
          <p:cNvSpPr/>
          <p:nvPr/>
        </p:nvSpPr>
        <p:spPr>
          <a:xfrm>
            <a:off x="8388360" y="6381720"/>
            <a:ext cx="75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Line 33"/>
          <p:cNvSpPr/>
          <p:nvPr/>
        </p:nvSpPr>
        <p:spPr>
          <a:xfrm>
            <a:off x="250920" y="95868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Rectangle 35"/>
          <p:cNvSpPr/>
          <p:nvPr/>
        </p:nvSpPr>
        <p:spPr>
          <a:xfrm>
            <a:off x="8532720" y="6566040"/>
            <a:ext cx="573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3B8C-76A1-4D96-8B63-AD40328D83AB}" type="slidenum">
              <a:rPr b="0" lang="sk-SK" sz="1200" spc="-1" strike="noStrike">
                <a:solidFill>
                  <a:srgbClr val="5d5d5d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5d5d5d"/>
                </a:solidFill>
                <a:latin typeface="Verdana"/>
              </a:rPr>
              <a:t>/</a:t>
            </a:r>
            <a:r>
              <a:rPr b="0" lang="sk-SK" sz="1200" spc="-1" strike="noStrike">
                <a:solidFill>
                  <a:srgbClr val="5d5d5d"/>
                </a:solidFill>
                <a:latin typeface="Verdana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93800" indent="-387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93760" indent="-39816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5"/>
          <p:cNvSpPr/>
          <p:nvPr/>
        </p:nvSpPr>
        <p:spPr>
          <a:xfrm>
            <a:off x="96840" y="6534000"/>
            <a:ext cx="5019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d5d5d"/>
                </a:solidFill>
                <a:latin typeface="Arial"/>
              </a:rPr>
              <a:t>Stručný názov zadani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23"/>
          <p:cNvSpPr/>
          <p:nvPr/>
        </p:nvSpPr>
        <p:spPr>
          <a:xfrm>
            <a:off x="5261040" y="6541920"/>
            <a:ext cx="3294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f5f5f"/>
                </a:solidFill>
                <a:latin typeface="Arial"/>
              </a:rPr>
              <a:t>M1. Priezvisko1, M2. Priezvisko2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Line 24"/>
          <p:cNvSpPr/>
          <p:nvPr/>
        </p:nvSpPr>
        <p:spPr>
          <a:xfrm>
            <a:off x="206280" y="640404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26"/>
          <p:cNvSpPr/>
          <p:nvPr/>
        </p:nvSpPr>
        <p:spPr>
          <a:xfrm>
            <a:off x="8388360" y="6381720"/>
            <a:ext cx="75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Line 33"/>
          <p:cNvSpPr/>
          <p:nvPr/>
        </p:nvSpPr>
        <p:spPr>
          <a:xfrm>
            <a:off x="250920" y="95868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35"/>
          <p:cNvSpPr/>
          <p:nvPr/>
        </p:nvSpPr>
        <p:spPr>
          <a:xfrm>
            <a:off x="8532720" y="6566040"/>
            <a:ext cx="573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0077-6B0A-45C7-B342-645FF21201C5}" type="slidenum">
              <a:rPr b="0" lang="sk-SK" sz="1200" spc="-1" strike="noStrike">
                <a:solidFill>
                  <a:srgbClr val="5d5d5d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5d5d5d"/>
                </a:solidFill>
                <a:latin typeface="Verdana"/>
              </a:rPr>
              <a:t>/</a:t>
            </a:r>
            <a:r>
              <a:rPr b="0" lang="sk-SK" sz="1200" spc="-1" strike="noStrike">
                <a:solidFill>
                  <a:srgbClr val="5d5d5d"/>
                </a:solidFill>
                <a:latin typeface="Verdana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93800" indent="-387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93760" indent="-39816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5"/>
          <p:cNvSpPr/>
          <p:nvPr/>
        </p:nvSpPr>
        <p:spPr>
          <a:xfrm>
            <a:off x="96840" y="6534000"/>
            <a:ext cx="5019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d5d5d"/>
                </a:solidFill>
                <a:latin typeface="Arial"/>
              </a:rPr>
              <a:t>Stručný názov zadani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23"/>
          <p:cNvSpPr/>
          <p:nvPr/>
        </p:nvSpPr>
        <p:spPr>
          <a:xfrm>
            <a:off x="5261040" y="6541920"/>
            <a:ext cx="3294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f5f5f"/>
                </a:solidFill>
                <a:latin typeface="Arial"/>
              </a:rPr>
              <a:t>M1. Priezvisko1, M2. Priezvisko2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Line 24"/>
          <p:cNvSpPr/>
          <p:nvPr/>
        </p:nvSpPr>
        <p:spPr>
          <a:xfrm>
            <a:off x="206280" y="640404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8388360" y="6381720"/>
            <a:ext cx="75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Line 33"/>
          <p:cNvSpPr/>
          <p:nvPr/>
        </p:nvSpPr>
        <p:spPr>
          <a:xfrm>
            <a:off x="250920" y="95868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35"/>
          <p:cNvSpPr/>
          <p:nvPr/>
        </p:nvSpPr>
        <p:spPr>
          <a:xfrm>
            <a:off x="8532720" y="6566040"/>
            <a:ext cx="573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AE9B-0D50-4456-B182-7E072123323D}" type="slidenum">
              <a:rPr b="0" lang="sk-SK" sz="1200" spc="-1" strike="noStrike">
                <a:solidFill>
                  <a:srgbClr val="5d5d5d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5d5d5d"/>
                </a:solidFill>
                <a:latin typeface="Verdana"/>
              </a:rPr>
              <a:t>/</a:t>
            </a:r>
            <a:r>
              <a:rPr b="0" lang="sk-SK" sz="1200" spc="-1" strike="noStrike">
                <a:solidFill>
                  <a:srgbClr val="5d5d5d"/>
                </a:solidFill>
                <a:latin typeface="Verdana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93800" indent="-387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93760" indent="-39816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5"/>
          <p:cNvSpPr/>
          <p:nvPr/>
        </p:nvSpPr>
        <p:spPr>
          <a:xfrm>
            <a:off x="96840" y="6534000"/>
            <a:ext cx="5019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d5d5d"/>
                </a:solidFill>
                <a:latin typeface="Arial"/>
              </a:rPr>
              <a:t>Stručný názov zadani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23"/>
          <p:cNvSpPr/>
          <p:nvPr/>
        </p:nvSpPr>
        <p:spPr>
          <a:xfrm>
            <a:off x="5261040" y="6541920"/>
            <a:ext cx="3294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f5f5f"/>
                </a:solidFill>
                <a:latin typeface="Arial"/>
              </a:rPr>
              <a:t>M1. Priezvisko1, M2. Priezvisko2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Line 24"/>
          <p:cNvSpPr/>
          <p:nvPr/>
        </p:nvSpPr>
        <p:spPr>
          <a:xfrm>
            <a:off x="206280" y="640404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Text Box 26"/>
          <p:cNvSpPr/>
          <p:nvPr/>
        </p:nvSpPr>
        <p:spPr>
          <a:xfrm>
            <a:off x="8388360" y="6381720"/>
            <a:ext cx="75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Line 33"/>
          <p:cNvSpPr/>
          <p:nvPr/>
        </p:nvSpPr>
        <p:spPr>
          <a:xfrm>
            <a:off x="250920" y="95868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Rectangle 35"/>
          <p:cNvSpPr/>
          <p:nvPr/>
        </p:nvSpPr>
        <p:spPr>
          <a:xfrm>
            <a:off x="8532720" y="6566040"/>
            <a:ext cx="573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0AA7-B648-48F4-A4B1-F82E763EAE72}" type="slidenum">
              <a:rPr b="0" lang="sk-SK" sz="1200" spc="-1" strike="noStrike">
                <a:solidFill>
                  <a:srgbClr val="5d5d5d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5d5d5d"/>
                </a:solidFill>
                <a:latin typeface="Verdana"/>
              </a:rPr>
              <a:t>/</a:t>
            </a:r>
            <a:r>
              <a:rPr b="0" lang="sk-SK" sz="1200" spc="-1" strike="noStrike">
                <a:solidFill>
                  <a:srgbClr val="5d5d5d"/>
                </a:solidFill>
                <a:latin typeface="Verdana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93800" indent="-387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93760" indent="-39816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5"/>
          <p:cNvSpPr/>
          <p:nvPr/>
        </p:nvSpPr>
        <p:spPr>
          <a:xfrm>
            <a:off x="96840" y="6534000"/>
            <a:ext cx="5019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d5d5d"/>
                </a:solidFill>
                <a:latin typeface="Arial"/>
              </a:rPr>
              <a:t>Stručný názov zadani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Text Box 23"/>
          <p:cNvSpPr/>
          <p:nvPr/>
        </p:nvSpPr>
        <p:spPr>
          <a:xfrm>
            <a:off x="5261040" y="6541920"/>
            <a:ext cx="3294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f5f5f"/>
                </a:solidFill>
                <a:latin typeface="Arial"/>
              </a:rPr>
              <a:t>M1. Priezvisko1, M2. Priezvisko2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Line 24"/>
          <p:cNvSpPr/>
          <p:nvPr/>
        </p:nvSpPr>
        <p:spPr>
          <a:xfrm>
            <a:off x="206280" y="640404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 Box 26"/>
          <p:cNvSpPr/>
          <p:nvPr/>
        </p:nvSpPr>
        <p:spPr>
          <a:xfrm>
            <a:off x="8388360" y="6381720"/>
            <a:ext cx="75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Line 33"/>
          <p:cNvSpPr/>
          <p:nvPr/>
        </p:nvSpPr>
        <p:spPr>
          <a:xfrm>
            <a:off x="250920" y="95868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Rectangle 35"/>
          <p:cNvSpPr/>
          <p:nvPr/>
        </p:nvSpPr>
        <p:spPr>
          <a:xfrm>
            <a:off x="8532720" y="6566040"/>
            <a:ext cx="573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EC84-C35A-487B-BA50-8D72C9201E79}" type="slidenum">
              <a:rPr b="0" lang="sk-SK" sz="1200" spc="-1" strike="noStrike">
                <a:solidFill>
                  <a:srgbClr val="5d5d5d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5d5d5d"/>
                </a:solidFill>
                <a:latin typeface="Verdana"/>
              </a:rPr>
              <a:t>/</a:t>
            </a:r>
            <a:r>
              <a:rPr b="0" lang="sk-SK" sz="1200" spc="-1" strike="noStrike">
                <a:solidFill>
                  <a:srgbClr val="5d5d5d"/>
                </a:solidFill>
                <a:latin typeface="Verdana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93800" indent="-387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93760" indent="-39816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15"/>
          <p:cNvSpPr/>
          <p:nvPr/>
        </p:nvSpPr>
        <p:spPr>
          <a:xfrm>
            <a:off x="96840" y="6534000"/>
            <a:ext cx="5019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d5d5d"/>
                </a:solidFill>
                <a:latin typeface="Arial"/>
              </a:rPr>
              <a:t>Stručný názov zadani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Text Box 23"/>
          <p:cNvSpPr/>
          <p:nvPr/>
        </p:nvSpPr>
        <p:spPr>
          <a:xfrm>
            <a:off x="5261040" y="6541920"/>
            <a:ext cx="3294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f5f5f"/>
                </a:solidFill>
                <a:latin typeface="Arial"/>
              </a:rPr>
              <a:t>M1. Priezvisko1, M2. Priezvisko2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Line 24"/>
          <p:cNvSpPr/>
          <p:nvPr/>
        </p:nvSpPr>
        <p:spPr>
          <a:xfrm>
            <a:off x="206280" y="640404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ext Box 26"/>
          <p:cNvSpPr/>
          <p:nvPr/>
        </p:nvSpPr>
        <p:spPr>
          <a:xfrm>
            <a:off x="8388360" y="6381720"/>
            <a:ext cx="75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Line 33"/>
          <p:cNvSpPr/>
          <p:nvPr/>
        </p:nvSpPr>
        <p:spPr>
          <a:xfrm>
            <a:off x="250920" y="95868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Rectangle 35"/>
          <p:cNvSpPr/>
          <p:nvPr/>
        </p:nvSpPr>
        <p:spPr>
          <a:xfrm>
            <a:off x="8532720" y="6566040"/>
            <a:ext cx="573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B29A-EE97-49D1-8199-D9E4CEE8B194}" type="slidenum">
              <a:rPr b="0" lang="sk-SK" sz="1200" spc="-1" strike="noStrike">
                <a:solidFill>
                  <a:srgbClr val="5d5d5d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5d5d5d"/>
                </a:solidFill>
                <a:latin typeface="Verdana"/>
              </a:rPr>
              <a:t>/</a:t>
            </a:r>
            <a:r>
              <a:rPr b="0" lang="sk-SK" sz="1200" spc="-1" strike="noStrike">
                <a:solidFill>
                  <a:srgbClr val="5d5d5d"/>
                </a:solidFill>
                <a:latin typeface="Verdana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93800" indent="-387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93760" indent="-39816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15"/>
          <p:cNvSpPr/>
          <p:nvPr/>
        </p:nvSpPr>
        <p:spPr>
          <a:xfrm>
            <a:off x="96840" y="6534000"/>
            <a:ext cx="5019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d5d5d"/>
                </a:solidFill>
                <a:latin typeface="Arial"/>
              </a:rPr>
              <a:t>Stručný názov zadania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Text Box 23"/>
          <p:cNvSpPr/>
          <p:nvPr/>
        </p:nvSpPr>
        <p:spPr>
          <a:xfrm>
            <a:off x="5261040" y="6541920"/>
            <a:ext cx="3294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5f5f5f"/>
                </a:solidFill>
                <a:latin typeface="Arial"/>
              </a:rPr>
              <a:t>M1. Priezvisko1, M2. Priezvisko2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Line 24"/>
          <p:cNvSpPr/>
          <p:nvPr/>
        </p:nvSpPr>
        <p:spPr>
          <a:xfrm>
            <a:off x="206280" y="640404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Text Box 26"/>
          <p:cNvSpPr/>
          <p:nvPr/>
        </p:nvSpPr>
        <p:spPr>
          <a:xfrm>
            <a:off x="8388360" y="6381720"/>
            <a:ext cx="75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Line 33"/>
          <p:cNvSpPr/>
          <p:nvPr/>
        </p:nvSpPr>
        <p:spPr>
          <a:xfrm>
            <a:off x="250920" y="958680"/>
            <a:ext cx="86598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Rectangle 35"/>
          <p:cNvSpPr/>
          <p:nvPr/>
        </p:nvSpPr>
        <p:spPr>
          <a:xfrm>
            <a:off x="8532720" y="6566040"/>
            <a:ext cx="573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9F55-2FE2-4563-8576-93EFD8D8C504}" type="slidenum">
              <a:rPr b="0" lang="sk-SK" sz="1200" spc="-1" strike="noStrike">
                <a:solidFill>
                  <a:srgbClr val="5d5d5d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5d5d5d"/>
                </a:solidFill>
                <a:latin typeface="Verdana"/>
              </a:rPr>
              <a:t>/</a:t>
            </a:r>
            <a:r>
              <a:rPr b="0" lang="sk-SK" sz="1200" spc="-1" strike="noStrike">
                <a:solidFill>
                  <a:srgbClr val="5d5d5d"/>
                </a:solidFill>
                <a:latin typeface="Verdana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05000" indent="-395280">
              <a:spcBef>
                <a:spcPts val="601"/>
              </a:spcBef>
              <a:buClr>
                <a:srgbClr val="cc0000"/>
              </a:buClr>
              <a:buSzPct val="12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93800" indent="-38736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93760" indent="-398160"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0" y="4955760"/>
            <a:ext cx="9144000" cy="126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Meno1 Priezvisko1, Meno 2 Priezvisko2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2. roč. Bc. , LS 2021/22</a:t>
            </a: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32" name="AutoShape 51"/>
          <p:cNvSpPr/>
          <p:nvPr/>
        </p:nvSpPr>
        <p:spPr>
          <a:xfrm>
            <a:off x="237960" y="1168560"/>
            <a:ext cx="8642520" cy="71280"/>
          </a:xfrm>
          <a:custGeom>
            <a:avLst/>
            <a:gdLst>
              <a:gd name="textAreaLeft" fmla="*/ 0 w 8642520"/>
              <a:gd name="textAreaRight" fmla="*/ 8642880 w 864252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1003" y="0"/>
                </a:lnTo>
                <a:lnTo>
                  <a:pt x="1003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336699"/>
          </a:solidFill>
          <a:ln w="648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AutoShape 52"/>
          <p:cNvSpPr/>
          <p:nvPr/>
        </p:nvSpPr>
        <p:spPr>
          <a:xfrm>
            <a:off x="257040" y="3716280"/>
            <a:ext cx="8642520" cy="71640"/>
          </a:xfrm>
          <a:custGeom>
            <a:avLst/>
            <a:gdLst>
              <a:gd name="textAreaLeft" fmla="*/ 0 w 8642520"/>
              <a:gd name="textAreaRight" fmla="*/ 8642880 w 864252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1003" y="0"/>
                </a:lnTo>
                <a:lnTo>
                  <a:pt x="1003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336699"/>
          </a:solidFill>
          <a:ln w="648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Text Box 54"/>
          <p:cNvSpPr/>
          <p:nvPr/>
        </p:nvSpPr>
        <p:spPr>
          <a:xfrm>
            <a:off x="250920" y="167292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99"/>
                </a:solidFill>
                <a:latin typeface="Verdana"/>
              </a:rPr>
              <a:t>MEMS-x:  NÁZOV PRÁC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99"/>
                </a:solidFill>
                <a:latin typeface="Verdana"/>
              </a:rPr>
              <a:t>(2–3 riadky)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Text Box 72"/>
          <p:cNvSpPr/>
          <p:nvPr/>
        </p:nvSpPr>
        <p:spPr>
          <a:xfrm>
            <a:off x="162000" y="423396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66"/>
                </a:solidFill>
                <a:latin typeface="Verdana"/>
              </a:rPr>
              <a:t>Referát z predmetu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66"/>
                </a:solidFill>
                <a:latin typeface="Verdana"/>
              </a:rPr>
              <a:t>„</a:t>
            </a:r>
            <a:r>
              <a:rPr b="1" lang="sk-SK" sz="2400" spc="-1" strike="noStrike">
                <a:solidFill>
                  <a:srgbClr val="000066"/>
                </a:solidFill>
                <a:latin typeface="Verdana"/>
              </a:rPr>
              <a:t>Modelovanie a simulácie v elektrotechnike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"/>
          <p:cNvSpPr/>
          <p:nvPr/>
        </p:nvSpPr>
        <p:spPr>
          <a:xfrm>
            <a:off x="685800" y="147600"/>
            <a:ext cx="7745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tedra elektrotechniky a mechatroniky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Fakulta elektrotechniky a informatiky, TU v Košiciach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7" name="Obrázok 1" descr=""/>
          <p:cNvPicPr/>
          <p:nvPr/>
        </p:nvPicPr>
        <p:blipFill>
          <a:blip r:embed="rId1"/>
          <a:stretch/>
        </p:blipFill>
        <p:spPr>
          <a:xfrm>
            <a:off x="306360" y="182520"/>
            <a:ext cx="660600" cy="6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225360" y="1176480"/>
            <a:ext cx="8918640" cy="4573440"/>
          </a:xfrm>
          <a:prstGeom prst="rect">
            <a:avLst/>
          </a:prstGeom>
          <a:noFill/>
          <a:ln w="0">
            <a:noFill/>
          </a:ln>
        </p:spPr>
        <p:txBody>
          <a:bodyPr lIns="54000" rIns="18000" anchor="t">
            <a:normAutofit/>
          </a:bodyPr>
          <a:p>
            <a:pPr marL="495360" indent="-495360">
              <a:lnSpc>
                <a:spcPct val="130000"/>
              </a:lnSpc>
              <a:spcBef>
                <a:spcPts val="550"/>
              </a:spcBef>
              <a:buClr>
                <a:srgbClr val="cc0000"/>
              </a:buClr>
              <a:buSzPct val="8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Tahoma"/>
              </a:rPr>
              <a:t>Zadanie  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(stručne zhrnúť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95360" indent="-495360">
              <a:lnSpc>
                <a:spcPct val="130000"/>
              </a:lnSpc>
              <a:spcBef>
                <a:spcPts val="550"/>
              </a:spcBef>
              <a:buClr>
                <a:srgbClr val="cc0000"/>
              </a:buClr>
              <a:buSzPct val="8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Tahoma"/>
              </a:rPr>
              <a:t>Analýza, východiská riešenia a pod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9536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  <a:ea typeface="Tahoma"/>
              </a:rPr>
              <a:t>̶   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  <a:ea typeface="Tahoma"/>
              </a:rPr>
              <a:t>Prípadný p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odnadpis uviesť odrážkou - pomlčkou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95360" indent="-495360">
              <a:lnSpc>
                <a:spcPct val="130000"/>
              </a:lnSpc>
              <a:spcBef>
                <a:spcPts val="550"/>
              </a:spcBef>
              <a:buClr>
                <a:srgbClr val="cc0000"/>
              </a:buClr>
              <a:buSzPct val="85000"/>
              <a:buFont typeface="Tahom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Tahoma"/>
              </a:rPr>
              <a:t>Vlastné riešenie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(vhodne pomenovať: Matematický model,  ..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95360" indent="-495360">
              <a:lnSpc>
                <a:spcPct val="130000"/>
              </a:lnSpc>
              <a:spcBef>
                <a:spcPts val="550"/>
              </a:spcBef>
              <a:buClr>
                <a:srgbClr val="cc0000"/>
              </a:buClr>
              <a:buSzPct val="85000"/>
              <a:buFont typeface="Tahom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Tahoma"/>
              </a:rPr>
              <a:t>Výsledky riešenia 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(časové a iné priebehy a pod.),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95360" indent="-495360">
              <a:lnSpc>
                <a:spcPct val="130000"/>
              </a:lnSpc>
              <a:spcBef>
                <a:spcPts val="550"/>
              </a:spcBef>
              <a:buClr>
                <a:srgbClr val="cc0000"/>
              </a:buClr>
              <a:buSzPct val="85000"/>
              <a:buFont typeface="Tahom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Tahoma"/>
              </a:rPr>
              <a:t>Návrh a popis GUI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(popis jednotlivých častí GUI, vývojový diagram, ..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95360" indent="-495360">
              <a:lnSpc>
                <a:spcPct val="130000"/>
              </a:lnSpc>
              <a:spcBef>
                <a:spcPts val="550"/>
              </a:spcBef>
              <a:buClr>
                <a:srgbClr val="cc0000"/>
              </a:buClr>
              <a:buSzPct val="85000"/>
              <a:buFont typeface="Tahoma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Tahoma"/>
              </a:rPr>
              <a:t>Záver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(čo sa urobilo, dosiahnuté výsledky, ďalšie riešenie, ..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399"/>
                </a:solidFill>
                <a:latin typeface="Tahoma"/>
              </a:rPr>
              <a:t>     </a:t>
            </a:r>
            <a:r>
              <a:rPr b="1" lang="sk-SK" sz="2800" spc="-1" strike="noStrike">
                <a:solidFill>
                  <a:srgbClr val="003399"/>
                </a:solidFill>
                <a:latin typeface="Tahoma"/>
              </a:rPr>
              <a:t>Obsah</a:t>
            </a:r>
            <a:r>
              <a:rPr b="0" lang="sk-SK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sk-SK" sz="2400" spc="-1" strike="noStrike">
                <a:solidFill>
                  <a:srgbClr val="003399"/>
                </a:solidFill>
                <a:latin typeface="Tahoma"/>
              </a:rPr>
              <a:t>(príklad, použiť vlastné vhodné pomenovanie)</a:t>
            </a:r>
            <a:endParaRPr b="1" lang="en-US" sz="2400" spc="-1" strike="noStrike">
              <a:solidFill>
                <a:srgbClr val="003399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399"/>
                </a:solidFill>
                <a:latin typeface="Tahoma"/>
              </a:rPr>
              <a:t>1.  Zadanie 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130000"/>
              </a:lnSpc>
              <a:spcBef>
                <a:spcPts val="55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Tu vložiť stručne zadanie aj nákres – (heslovi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1 obrazovka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64760" indent="-464760">
              <a:lnSpc>
                <a:spcPct val="12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Jednotlivé </a:t>
            </a: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časti prezentácie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číslujte (kapitoly – 1, podkap. 1.1, ..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64760" indent="-464760">
              <a:lnSpc>
                <a:spcPct val="12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Riadkovanie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na obrazovke zvoľte tak, aby bol vyplnená strana </a:t>
            </a:r>
            <a:br>
              <a:rPr sz="2200"/>
            </a:b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bli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ž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 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1,1 – 1,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pred odse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m 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vynechať cca 6 – 9 p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64760" indent="-464760">
              <a:lnSpc>
                <a:spcPct val="12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Využívajte </a:t>
            </a: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skratkové klávesy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pre rýchle riešenie: </a:t>
            </a:r>
            <a:br>
              <a:rPr sz="2200"/>
            </a:b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- pre novú snímku:     </a:t>
            </a:r>
            <a:r>
              <a:rPr b="1" lang="sk-SK" sz="2200" spc="-1" strike="noStrike">
                <a:solidFill>
                  <a:srgbClr val="000000"/>
                </a:solidFill>
                <a:latin typeface="Tahoma"/>
              </a:rPr>
              <a:t>Ctrl + M</a:t>
            </a:r>
            <a:br>
              <a:rPr sz="2200"/>
            </a:b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- pre duplikát snímky: </a:t>
            </a:r>
            <a:r>
              <a:rPr b="1" lang="sk-SK" sz="2200" spc="-1" strike="noStrike">
                <a:solidFill>
                  <a:srgbClr val="000000"/>
                </a:solidFill>
                <a:latin typeface="Tahoma"/>
              </a:rPr>
              <a:t>Ctrl + D </a:t>
            </a:r>
            <a:br>
              <a:rPr sz="2200"/>
            </a:b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- pre </a:t>
            </a: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zalomenie riadku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(v rámci odseku): </a:t>
            </a:r>
            <a:r>
              <a:rPr b="1" lang="sk-SK" sz="2200" spc="-1" strike="noStrike">
                <a:solidFill>
                  <a:srgbClr val="000000"/>
                </a:solidFill>
                <a:latin typeface="Tahoma"/>
              </a:rPr>
              <a:t>Shift + Enter</a:t>
            </a:r>
            <a:br>
              <a:rPr sz="2200"/>
            </a:b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  (napr. jedno-, dvojslabičné predložky a spojky na konci riadku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64760" indent="-464760">
              <a:lnSpc>
                <a:spcPct val="13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Snímky číslujte (vpravo do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ut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omatické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čí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lovanie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– jeho úprava: Zobraziť/Predloha snímky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399"/>
                </a:solidFill>
                <a:latin typeface="Tahoma"/>
              </a:rPr>
              <a:t>2.  Riešenie</a:t>
            </a:r>
            <a:r>
              <a:rPr b="0" lang="sk-SK" sz="2800" spc="-1" strike="noStrike">
                <a:solidFill>
                  <a:srgbClr val="003399"/>
                </a:solidFill>
                <a:latin typeface="Tahoma"/>
              </a:rPr>
              <a:t> (dať svoj vlastný nadpis)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lnSpc>
                <a:spcPct val="11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S ohľadom na svetelné podmienky v miestnosti (bez zatemnenia) je najvhodnejšie písať </a:t>
            </a: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čiernymi písmenami na biele pozadie </a:t>
            </a:r>
            <a:br>
              <a:rPr sz="2200"/>
            </a:b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(rôzne farebné pozadia nie sú veľmi vhodné)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5400" indent="-455400">
              <a:lnSpc>
                <a:spcPct val="11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Podľa možnosti zvoliť </a:t>
            </a: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štruktúrovaný text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, t.j. používať </a:t>
            </a: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odrážky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1. rádu, príp. aj 2. rádu, napr. pomlčky), </a:t>
            </a:r>
            <a:br>
              <a:rPr sz="2200"/>
            </a:b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číslovať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, v texte zdôrazniť dôležité (</a:t>
            </a:r>
            <a:r>
              <a:rPr b="1" lang="sk-SK" sz="2200" spc="-1" strike="noStrike">
                <a:solidFill>
                  <a:srgbClr val="000000"/>
                </a:solidFill>
                <a:latin typeface="Tahoma"/>
              </a:rPr>
              <a:t>tučné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podčiarknuť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), </a:t>
            </a:r>
            <a:br>
              <a:rPr sz="2200"/>
            </a:b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odseky oddeliť väčšou medzerou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5400" indent="-455400">
              <a:lnSpc>
                <a:spcPct val="11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Nadpis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na snímke - </a:t>
            </a:r>
            <a:r>
              <a:rPr b="1" lang="sk-SK" sz="2800" spc="-1" strike="noStrike">
                <a:solidFill>
                  <a:srgbClr val="003399"/>
                </a:solidFill>
                <a:latin typeface="Tahoma"/>
              </a:rPr>
              <a:t>Tahoma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, 28 p., tučný (lepšie inou farbou)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5400" indent="-455400">
              <a:lnSpc>
                <a:spcPct val="11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Text 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- používajte </a:t>
            </a: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bezpätkový font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, najlepšie Tahoma, 20-22 bodov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5400" indent="-455400">
              <a:lnSpc>
                <a:spcPct val="11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V prípade potreby možno použiť aj iné bezpätkové fonty: Tahoma, 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k-SK" sz="2200" spc="-1" strike="noStrike">
                <a:solidFill>
                  <a:srgbClr val="000000"/>
                </a:solidFill>
                <a:latin typeface="Verdana"/>
                <a:ea typeface="Verdana"/>
              </a:rPr>
              <a:t>Verdana, </a:t>
            </a:r>
            <a:r>
              <a:rPr b="0" lang="sk-SK" sz="2200" spc="-1" strike="noStrike">
                <a:solidFill>
                  <a:srgbClr val="000000"/>
                </a:solidFill>
                <a:latin typeface="Arial Narrow"/>
                <a:ea typeface="Verdana"/>
              </a:rPr>
              <a:t>Arial Narrow </a:t>
            </a:r>
            <a:br>
              <a:rPr sz="2200"/>
            </a:b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(neodporúča sa pätkové, ako napr. </a:t>
            </a:r>
            <a:r>
              <a:rPr b="0" lang="sk-SK" sz="2200" spc="-1" strike="noStrike">
                <a:solidFill>
                  <a:srgbClr val="000000"/>
                </a:solidFill>
                <a:latin typeface="Times New Roman"/>
              </a:rPr>
              <a:t>Times New Roman, </a:t>
            </a:r>
            <a:r>
              <a:rPr b="0" lang="sk-SK" sz="2400" spc="-1" strike="noStrike">
                <a:solidFill>
                  <a:srgbClr val="000000"/>
                </a:solidFill>
                <a:latin typeface="Garamond"/>
              </a:rPr>
              <a:t>Garamond</a:t>
            </a:r>
            <a:r>
              <a:rPr b="0" lang="sk-SK" sz="2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399"/>
                </a:solidFill>
                <a:latin typeface="Tahoma"/>
              </a:rPr>
              <a:t>3. Výsledky </a:t>
            </a:r>
            <a:r>
              <a:rPr b="0" lang="sk-SK" sz="2800" spc="-1" strike="noStrike">
                <a:solidFill>
                  <a:srgbClr val="003399"/>
                </a:solidFill>
                <a:latin typeface="Tahoma"/>
              </a:rPr>
              <a:t> (dať svoj vlastný nadpis)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lnSpc>
                <a:spcPct val="11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Rovnice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písať tým istým fontom a veľkosťou ako text (cca 22 p.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5400" indent="-455400">
              <a:lnSpc>
                <a:spcPct val="11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V rovniciach premenné a funkcie </a:t>
            </a: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ležatým typom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nie však čísla a zátvork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5400" indent="-455400">
              <a:lnSpc>
                <a:spcPct val="11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Používať </a:t>
            </a: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veľké obrázky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a v obrázkoch </a:t>
            </a: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veľké označenia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 </a:t>
            </a:r>
            <a:br>
              <a:rPr sz="2200"/>
            </a:b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(obrázky netreba číslovať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5400" indent="-455400">
              <a:lnSpc>
                <a:spcPct val="11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Snímka nesmie byt prepchatá, ale zložité obrázky majú byť čo najväčšie (prípadne orezať prázdne okraje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5400" indent="-455400">
              <a:lnSpc>
                <a:spcPct val="11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Pozor na </a:t>
            </a:r>
            <a:r>
              <a:rPr b="0" lang="sk-SK" sz="2200" spc="-1" strike="noStrike" u="sng">
                <a:solidFill>
                  <a:srgbClr val="000000"/>
                </a:solidFill>
                <a:uFillTx/>
                <a:latin typeface="Tahoma"/>
              </a:rPr>
              <a:t>malé indexy a čísla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na grafo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!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- aby boli čitateľné (priame výstupy s MATLABu bez úpravy spravidla nie sú vhodné)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5400" indent="-455400">
              <a:lnSpc>
                <a:spcPct val="11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Odporúčaný počet snímok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ezent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á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ie 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je cca 8 – 12 až 15.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55400" indent="-455400">
              <a:lnSpc>
                <a:spcPct val="110000"/>
              </a:lnSpc>
              <a:spcBef>
                <a:spcPts val="901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Natrénujte si prezentáciu: aspoň 3x si ju povedzte, </a:t>
            </a:r>
            <a:br>
              <a:rPr sz="2200"/>
            </a:b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pripravte si ju na rozsah cca 7 – 10 min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1280" y="266760"/>
            <a:ext cx="889344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399"/>
                </a:solidFill>
                <a:latin typeface="Tahoma"/>
              </a:rPr>
              <a:t>x.  Záver</a:t>
            </a:r>
            <a:endParaRPr b="1" lang="en-US" sz="2800" spc="-1" strike="noStrike">
              <a:solidFill>
                <a:srgbClr val="003399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Stručne (heslovite) zhrnúť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55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Čo a ako bolo v danej práci riešené, akými metódami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55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Aké sú dosiahnuté výsledk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55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Aké sú obmedzenia riešeni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55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Aké sú možnosti rozšírenia programu , vylepšenia a pokračovania </a:t>
            </a:r>
            <a:br>
              <a:rPr sz="2200"/>
            </a:b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v ďalšej práci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55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Ako a kde možno využ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ť dosiahnuté výsled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spcBef>
                <a:spcPts val="550"/>
              </a:spcBef>
              <a:buClr>
                <a:srgbClr val="cc00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Celkové zhodnotenie a p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Po prezentácii predveďte riešenie: </a:t>
            </a:r>
            <a:br>
              <a:rPr sz="2200"/>
            </a:b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GUI, príp. MATLABe/Simulinku/ SimScape (podľa požiadaviek)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187200" y="1125360"/>
            <a:ext cx="89568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399"/>
                </a:solidFill>
                <a:latin typeface="Tahoma"/>
              </a:rPr>
              <a:t>Ďakujeme za pozornosť</a:t>
            </a:r>
            <a:r>
              <a:rPr b="1" lang="en-US" sz="3200" spc="-1" strike="noStrike">
                <a:solidFill>
                  <a:srgbClr val="003399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Kontakt</a:t>
            </a:r>
            <a:r>
              <a:rPr b="1" lang="sk-SK" sz="2200" spc="-1" strike="noStrike">
                <a:solidFill>
                  <a:srgbClr val="003399"/>
                </a:solidFill>
                <a:latin typeface="Tahoma"/>
              </a:rPr>
              <a:t>: </a:t>
            </a:r>
            <a:r>
              <a:rPr b="0" lang="sk-SK" sz="2200" spc="-1" strike="noStrike">
                <a:solidFill>
                  <a:srgbClr val="003399"/>
                </a:solidFill>
                <a:latin typeface="Tahoma"/>
              </a:rPr>
              <a:t>- napr.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 algn="ctr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Meno</a:t>
            </a:r>
            <a:r>
              <a:rPr b="1" lang="sk-SK" sz="2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Priezvisko</a:t>
            </a:r>
            <a:r>
              <a:rPr b="1" lang="sk-SK" sz="2200" spc="-1" strike="noStrike">
                <a:solidFill>
                  <a:srgbClr val="000000"/>
                </a:solidFill>
                <a:latin typeface="Tahoma"/>
              </a:rPr>
              <a:t>1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mai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 algn="ctr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Meno</a:t>
            </a:r>
            <a:r>
              <a:rPr b="1" lang="sk-SK" sz="2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Priezvisko</a:t>
            </a:r>
            <a:r>
              <a:rPr b="1" lang="sk-SK" sz="2200" spc="-1" strike="noStrike">
                <a:solidFill>
                  <a:srgbClr val="000000"/>
                </a:solidFill>
                <a:latin typeface="Tahoma"/>
              </a:rPr>
              <a:t>2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mai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 algn="ctr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pr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íp. sa tu môže napísať celý kontakt – inštitúcia, adresa,..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9T05:03:40Z</dcterms:created>
  <dc:creator>Autori</dc:creator>
  <dc:description>Template by:
Viliam Fedák, KEM FEI TUKE, 2011</dc:description>
  <cp:keywords>CAD mechatronika</cp:keywords>
  <dc:language>en-US</dc:language>
  <cp:lastModifiedBy>Viliam Fedák</cp:lastModifiedBy>
  <dcterms:modified xsi:type="dcterms:W3CDTF">2022-02-20T18:48:57Z</dcterms:modified>
  <cp:revision>469</cp:revision>
  <dc:subject>CAD v mechatronike</dc:subject>
  <dc:title>Referát z predmetu</dc:title>
</cp:coreProperties>
</file>